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4F1-1B50-4B69-A958-D95D88D1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550-2121-444D-B9B9-BC0D85E3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9F3-0179-4477-BE0F-654799A6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453-B6A0-4CB7-A178-C2A5FEE0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165-71AD-49D4-A827-7169899B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05E-DE62-4774-BA37-BEA25209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4DA-A619-4970-B843-130EB8F6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5E2-F4EB-42E0-A3E5-627D4A2F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897-6AFD-49C7-A850-1497E1D1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291-5BE9-4139-B621-7817FFA2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624-9913-4A2C-B663-961D7B81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D1A-83EB-4A1A-A4F9-BF61F66D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6EC7-7DCA-4130-93E4-4C5A72F4F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isher’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Exact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388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90920" y="4952880"/>
            <a:ext cx="4254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6272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y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69608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286000" y="3962520"/>
            <a:ext cx="4495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769608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86000" y="3733920"/>
            <a:ext cx="4572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9608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7696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696080" cy="800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971800" y="4038480"/>
            <a:ext cx="2514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696080" cy="84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7696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96080" cy="2133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696080" cy="1066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81680" y="4419720"/>
            <a:ext cx="1600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213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7696440" cy="1067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934320" y="3352680"/>
            <a:ext cx="16002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7620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2184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304812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78168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371600" y="2895480"/>
            <a:ext cx="678168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410080" y="2971800"/>
            <a:ext cx="1752840" cy="914400"/>
          </a:xfrm>
          <a:prstGeom prst="rect">
            <a:avLst/>
          </a:prstGeom>
          <a:solidFill>
            <a:srgbClr val="fff7ca"/>
          </a:solidFill>
          <a:ln w="9360">
            <a:solidFill>
              <a:srgbClr val="ffee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971800" y="2819520"/>
            <a:ext cx="198108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371600" y="8380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791320" y="838080"/>
            <a:ext cx="2361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162920" cy="201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7162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143000" y="5334120"/>
            <a:ext cx="71629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54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7543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8720" y="5257800"/>
            <a:ext cx="736956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If you know the frequency in the a-cell you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determine the frequencies in the other 3 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2012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3880" y="5105520"/>
            <a:ext cx="6400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4T17:30:54Z</dcterms:modified>
  <cp:revision>41</cp:revision>
  <dc:subject/>
  <dc:title>PowerPoint Presentation</dc:title>
</cp:coreProperties>
</file>